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A059-E14C-4730-B060-756200B7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698-CCCF-4499-8E27-A1F0CD77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C45-AF0B-42B4-AB30-4EB6754C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460-9378-4F7D-B66E-2B8C13CD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CF6-1D5B-44F5-A0EF-C2AACCE0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66F-5D18-448D-99CE-0E7CF984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7E0-ACF3-4033-9BA5-8E87D867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2C5-A194-4F04-A92F-A8E4E4F9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2DEF-6153-4D4B-B277-829ED634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ABC-EAF1-42AA-A345-B61E89CD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ED2-F31A-411C-ABBF-66610C40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97E-25E8-4F54-AB85-F9373FDB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15B9-C23E-4CA3-8FC6-FC86DAEA1F64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condo.ro/amenajari/arhitectura/306/slideshow/Galerie-foto-Case-inedite-construite-din-pamant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rdhaus.ch/main.php?fla=y&amp;lang=en&amp;cont=start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476280"/>
            <a:ext cx="352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Case de p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m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522936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Va invitam sa parcurgeti o serie de imagini inedite ce prezinta case construite din pamant, semnate de arhitectul elvetian </a:t>
            </a:r>
            <a:r>
              <a:rPr b="1" lang="ro-RO" sz="2400" spc="-1" strike="noStrike">
                <a:solidFill>
                  <a:srgbClr val="ff3300"/>
                </a:solidFill>
                <a:latin typeface="Arial"/>
              </a:rPr>
              <a:t>Peter Vetsch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0920" y="189000"/>
            <a:ext cx="446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nceptul caselor de pamant utilizeaza pamantul ca un invelis izolator ce protejeaza constructia de ploi, temperaturi scazute si v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10260000" cy="68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29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9640" y="5805360"/>
            <a:ext cx="56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rhitectura acoperita de pamant beneficiaza de temperaturi echilibrate. Astfel de constructii sunt mai reci vara si mai calduroase iarna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919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260280"/>
            <a:ext cx="622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ormele curbe ale caselor de pamant reprezinta o sinteza ideala dintre forma si functiune. Aceasta forma arhaica constituie un omagiu adus mediului inconjurato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33336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tructura caselor de pamant asigura forme organice, elaborarea acestora necesitand creativitate si un puternic simt al spatiulu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546520" cy="5861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63640" y="549360"/>
            <a:ext cx="5400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asele de pamant ne trimit cu gandul la sculpturi locuibile, incorporand valente artistice si calitati sculptu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34520" cy="71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468000" cy="73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2602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00"/>
                </a:solidFill>
                <a:latin typeface="Arial"/>
              </a:rPr>
              <a:t>Aceste constructii se bazeaza pe conceptele arhitecturii ecologice, prezinta forme organice si sunt inzestrate cu valente artis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8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sele moderne din pamant incorporeaza finisaje de ultima ora, precum bucatarii contemporane sau bai complet util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325080" cy="7085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404640"/>
            <a:ext cx="482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vand in vedere ca fiecare constructie este proiectata separat in functie de necesitatile proprietarului, fiecare casa este un obiect puternic individualiz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92180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9308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81080" y="-120600"/>
            <a:ext cx="9506160" cy="709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22280" y="0"/>
            <a:ext cx="649944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9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9937800" cy="696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5805360"/>
            <a:ext cx="58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 casa din pamant nu trebuie sa fie construita neaparat sub pamant, putand fi amplasata si deasupra sitului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090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537372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Schimbarile ce au loc in cadrul comunitatii internationale necesita solutii flexibile si multi-functionale in ceea ce priveste mediul construit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56720" cy="692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59500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ondo.ro/amenajari/arhitectura/306/slideshow/Galerie-foto-Case-inedite-construite-din-paman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http://www.erdhaus.ch/main.php?fla=y&amp;lang=en&amp;cont=earth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5300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t de Luana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71640" y="494172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in pacate, majoritatea cladirilor contemporane sunt rezultatul unei abordari conventionale a design-ului ce apartine trecutulu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3300"/>
                </a:solidFill>
                <a:latin typeface="Arial"/>
              </a:rPr>
              <a:t>Arhitectura nu ar trebui sa domine natura ci sa comunice cu ea, iar din acest motiv arhitectura ecologica isi propune sa se integreze cat mai armonios in mediul inconju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515772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sele de pamant create de 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eter Vetsch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 se bazeaza pe conceptele arhitecturii ecologice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492360" y="5445000"/>
            <a:ext cx="5327640" cy="131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3300"/>
                </a:solidFill>
                <a:latin typeface="Arial"/>
              </a:rPr>
              <a:t>Acestea se remarca prin stransa relatie cu natura si prin faptul ca ofera experiente diferite fata de constructiile obisnuite cu patru pereti si unghiuri drep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635280" y="5546880"/>
            <a:ext cx="55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asele de pamant folosesc imprejurimile in avantajul lor; mediul inconjurator nu este adaptat cladirii, casa fiind modelata pentru a conserva mediul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756720" cy="7040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87280" y="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re deosebire de constructiile rezidentiale traditionale, scopul unei case din pamant nu este acela de a trai 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sub,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 sau 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deasup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 pamantului, ci 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impreun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 cu 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0:16:44Z</dcterms:created>
  <dc:creator>Luana Dumitru</dc:creator>
  <dc:description/>
  <dc:language>en-US</dc:language>
  <cp:lastModifiedBy>Maica Maria</cp:lastModifiedBy>
  <dcterms:modified xsi:type="dcterms:W3CDTF">2010-04-12T21:49:52Z</dcterms:modified>
  <cp:revision>4</cp:revision>
  <dc:subject/>
  <dc:title>Slide 1</dc:title>
</cp:coreProperties>
</file>